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A0C1-F0B0-4451-A6C4-06F8801AA9E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36D2-5E78-49F3-BBA8-3915E0F2133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005-1599-4ADB-8D55-0837386922C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0DE-7C29-4165-8AEE-E58E550B857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1B0-7AF4-4E0E-962C-75E5094A93E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B91-006C-437D-BE0C-A35B333CCAE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4B4E-9D56-4A9C-BAA2-1CB20BBE1C3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8CF7-7B4B-41EC-83EE-3EE3E044B7A0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59BA-E850-4E79-8F0F-CE325C7258F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2BF3-28E1-4653-83EC-F976AE0B8ED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D22-62BA-46EF-8B7B-105A27F00CA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1DCE-31B4-48EA-93B2-6019B4E763B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5B23-D249-456F-BB0F-4A46B7C78C3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E21B-16DB-4E60-A319-7BD7A3A31B3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DCE-2298-4C77-8D3F-DEDF3A05FD5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369B-375D-4362-B108-D91BD9B706C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E866-E1A6-49BA-8382-3C3954BE7B2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453E-01AE-4313-8908-B2B3F67DC1F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E02-531A-4B0F-A3A6-DEE334E8CDC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CF5-1442-4C8A-BC54-D16F0BC8AC2C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BEE5-7538-4C7A-A670-33F6DF3510B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5EB8-1DEB-42C6-BE1B-FF7219A4ACD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3A4-98F0-4687-BFFD-516311C214B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637B-09A2-43F6-A120-417622253FA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677-6289-4E38-BEE8-1A58A0513EB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34A5-A1A1-412A-A39F-F86EFB66AE6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C61-60C7-486C-A4FE-039F3B89B51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CBC-6689-40A7-8252-EC7D6DA8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CF3-6AAA-490E-8F49-CF635B09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E95-9757-41BB-993B-FB3AF077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5F7-D9C5-4C2A-9246-4AFD90EA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8F2-EB96-45FE-ACAB-644F3A58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6A3-523C-4F1F-A980-0E9F900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045-4E8D-4696-A4FD-543E4CCB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493-7DEA-473D-A26A-F88F3D5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E37-BA88-4DEA-AA13-3AA335CA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FD4-C08F-447D-84C5-21ACE4E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13B-8A90-49CF-BA18-4729087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B24-19C6-4868-95C8-EB04767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583-81DB-44CC-8FF8-4FC193C70A42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Virtapiir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6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kstikehys 1"/>
          <p:cNvSpPr/>
          <p:nvPr/>
        </p:nvSpPr>
        <p:spPr>
          <a:xfrm>
            <a:off x="2160000" y="57168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ristojen kytkenn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kstikehys 2"/>
          <p:cNvSpPr/>
          <p:nvPr/>
        </p:nvSpPr>
        <p:spPr>
          <a:xfrm>
            <a:off x="939960" y="221472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istot  sarj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ikehys 4"/>
          <p:cNvSpPr/>
          <p:nvPr/>
        </p:nvSpPr>
        <p:spPr>
          <a:xfrm>
            <a:off x="5296320" y="21430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ristot rin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Kuva 5" descr="paristot-sarjassa.gif"/>
          <p:cNvPicPr/>
          <p:nvPr/>
        </p:nvPicPr>
        <p:blipFill>
          <a:blip r:embed="rId1"/>
          <a:stretch/>
        </p:blipFill>
        <p:spPr>
          <a:xfrm>
            <a:off x="285840" y="29289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81" name="Kuva 6" descr="paristot-rinnan.gif"/>
          <p:cNvPicPr/>
          <p:nvPr/>
        </p:nvPicPr>
        <p:blipFill>
          <a:blip r:embed="rId2"/>
          <a:stretch/>
        </p:blipFill>
        <p:spPr>
          <a:xfrm>
            <a:off x="4643280" y="2857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Kuva 1" descr="paristot-sarjassa.gif"/>
          <p:cNvPicPr/>
          <p:nvPr/>
        </p:nvPicPr>
        <p:blipFill>
          <a:blip r:embed="rId1"/>
          <a:stretch/>
        </p:blipFill>
        <p:spPr>
          <a:xfrm>
            <a:off x="428760" y="15717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Tekstikehys 3"/>
          <p:cNvSpPr/>
          <p:nvPr/>
        </p:nvSpPr>
        <p:spPr>
          <a:xfrm>
            <a:off x="3086280" y="50004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ristot sarj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kstikehys 4"/>
          <p:cNvSpPr/>
          <p:nvPr/>
        </p:nvSpPr>
        <p:spPr>
          <a:xfrm>
            <a:off x="39240" y="4714920"/>
            <a:ext cx="898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arjaankytkennässä erinimiset navat yhdistetää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ja muodostuu yksi silmu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llipsi 20"/>
          <p:cNvSpPr/>
          <p:nvPr/>
        </p:nvSpPr>
        <p:spPr>
          <a:xfrm>
            <a:off x="6643800" y="3143160"/>
            <a:ext cx="42840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uora yhdysviiva 22"/>
          <p:cNvSpPr/>
          <p:nvPr/>
        </p:nvSpPr>
        <p:spPr>
          <a:xfrm>
            <a:off x="6707160" y="3206880"/>
            <a:ext cx="301680" cy="30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uora yhdysviiva 26"/>
          <p:cNvSpPr/>
          <p:nvPr/>
        </p:nvSpPr>
        <p:spPr>
          <a:xfrm flipV="1">
            <a:off x="6707160" y="3206520"/>
            <a:ext cx="301680" cy="30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uora yhdysviiva 31"/>
          <p:cNvSpPr/>
          <p:nvPr/>
        </p:nvSpPr>
        <p:spPr>
          <a:xfrm flipH="1" flipV="1">
            <a:off x="6000840" y="335772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ora yhdysviiva 32"/>
          <p:cNvSpPr/>
          <p:nvPr/>
        </p:nvSpPr>
        <p:spPr>
          <a:xfrm flipH="1" flipV="1">
            <a:off x="7071840" y="3357720"/>
            <a:ext cx="714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uora yhdysviiva 34"/>
          <p:cNvSpPr/>
          <p:nvPr/>
        </p:nvSpPr>
        <p:spPr>
          <a:xfrm flipH="1">
            <a:off x="6000840" y="2071800"/>
            <a:ext cx="14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uora yhdysviiva 35"/>
          <p:cNvSpPr/>
          <p:nvPr/>
        </p:nvSpPr>
        <p:spPr>
          <a:xfrm flipH="1" flipV="1">
            <a:off x="6500880" y="2071800"/>
            <a:ext cx="428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uora yhdysviiva 36"/>
          <p:cNvSpPr/>
          <p:nvPr/>
        </p:nvSpPr>
        <p:spPr>
          <a:xfrm flipH="1" flipV="1">
            <a:off x="6000840" y="2071800"/>
            <a:ext cx="35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uora yhdysviiva 37"/>
          <p:cNvSpPr/>
          <p:nvPr/>
        </p:nvSpPr>
        <p:spPr>
          <a:xfrm flipH="1" flipV="1">
            <a:off x="7071840" y="2071800"/>
            <a:ext cx="714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uora yhdysviiva 41"/>
          <p:cNvSpPr/>
          <p:nvPr/>
        </p:nvSpPr>
        <p:spPr>
          <a:xfrm flipH="1">
            <a:off x="6357960" y="192888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uora yhdysviiva 42"/>
          <p:cNvSpPr/>
          <p:nvPr/>
        </p:nvSpPr>
        <p:spPr>
          <a:xfrm flipH="1">
            <a:off x="6928920" y="1928880"/>
            <a:ext cx="18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ora yhdysviiva 44"/>
          <p:cNvSpPr/>
          <p:nvPr/>
        </p:nvSpPr>
        <p:spPr>
          <a:xfrm flipH="1">
            <a:off x="6500880" y="1857240"/>
            <a:ext cx="14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uora yhdysviiva 45"/>
          <p:cNvSpPr/>
          <p:nvPr/>
        </p:nvSpPr>
        <p:spPr>
          <a:xfrm flipH="1">
            <a:off x="7071840" y="1857240"/>
            <a:ext cx="180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uora yhdysviiva 48"/>
          <p:cNvSpPr/>
          <p:nvPr/>
        </p:nvSpPr>
        <p:spPr>
          <a:xfrm flipH="1">
            <a:off x="7786800" y="2071800"/>
            <a:ext cx="14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Kuva 1" descr="paristot-rinnan.gif"/>
          <p:cNvPicPr/>
          <p:nvPr/>
        </p:nvPicPr>
        <p:blipFill>
          <a:blip r:embed="rId1"/>
          <a:stretch/>
        </p:blipFill>
        <p:spPr>
          <a:xfrm>
            <a:off x="1071720" y="1357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200" name="Tekstikehys 3"/>
          <p:cNvSpPr/>
          <p:nvPr/>
        </p:nvSpPr>
        <p:spPr>
          <a:xfrm>
            <a:off x="960480" y="4572000"/>
            <a:ext cx="60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innankytkennässä samanmerkki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vat yhdistetään toisii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uora yhdysviiva 5"/>
          <p:cNvSpPr/>
          <p:nvPr/>
        </p:nvSpPr>
        <p:spPr>
          <a:xfrm>
            <a:off x="6215040" y="1214280"/>
            <a:ext cx="4287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lipsi 6"/>
          <p:cNvSpPr/>
          <p:nvPr/>
        </p:nvSpPr>
        <p:spPr>
          <a:xfrm>
            <a:off x="6572160" y="2500200"/>
            <a:ext cx="428760" cy="428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ora yhdysviiva 8"/>
          <p:cNvSpPr/>
          <p:nvPr/>
        </p:nvSpPr>
        <p:spPr>
          <a:xfrm>
            <a:off x="6635160" y="2563920"/>
            <a:ext cx="30132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uora yhdysviiva 10"/>
          <p:cNvSpPr/>
          <p:nvPr/>
        </p:nvSpPr>
        <p:spPr>
          <a:xfrm flipV="1">
            <a:off x="6635160" y="2563920"/>
            <a:ext cx="30132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uora yhdysviiva 23"/>
          <p:cNvSpPr/>
          <p:nvPr/>
        </p:nvSpPr>
        <p:spPr>
          <a:xfrm flipH="1">
            <a:off x="6215040" y="1214280"/>
            <a:ext cx="1440" cy="150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uora yhdysviiva 25"/>
          <p:cNvSpPr/>
          <p:nvPr/>
        </p:nvSpPr>
        <p:spPr>
          <a:xfrm>
            <a:off x="6215040" y="1643040"/>
            <a:ext cx="42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uora yhdysviiva 26"/>
          <p:cNvSpPr/>
          <p:nvPr/>
        </p:nvSpPr>
        <p:spPr>
          <a:xfrm>
            <a:off x="7000920" y="1214280"/>
            <a:ext cx="4287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uora yhdysviiva 27"/>
          <p:cNvSpPr/>
          <p:nvPr/>
        </p:nvSpPr>
        <p:spPr>
          <a:xfrm>
            <a:off x="7000920" y="1643040"/>
            <a:ext cx="42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uora yhdysviiva 28"/>
          <p:cNvSpPr/>
          <p:nvPr/>
        </p:nvSpPr>
        <p:spPr>
          <a:xfrm flipH="1">
            <a:off x="7429680" y="1214280"/>
            <a:ext cx="1440" cy="1500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uora yhdysviiva 39"/>
          <p:cNvSpPr/>
          <p:nvPr/>
        </p:nvSpPr>
        <p:spPr>
          <a:xfrm>
            <a:off x="7000920" y="2714760"/>
            <a:ext cx="42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uora yhdysviiva 40"/>
          <p:cNvSpPr/>
          <p:nvPr/>
        </p:nvSpPr>
        <p:spPr>
          <a:xfrm>
            <a:off x="6215040" y="2714760"/>
            <a:ext cx="357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uora yhdysviiva 43"/>
          <p:cNvSpPr/>
          <p:nvPr/>
        </p:nvSpPr>
        <p:spPr>
          <a:xfrm flipH="1">
            <a:off x="6643800" y="150012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uora yhdysviiva 45"/>
          <p:cNvSpPr/>
          <p:nvPr/>
        </p:nvSpPr>
        <p:spPr>
          <a:xfrm flipH="1">
            <a:off x="6643800" y="1071720"/>
            <a:ext cx="144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uora yhdysviiva 46"/>
          <p:cNvSpPr/>
          <p:nvPr/>
        </p:nvSpPr>
        <p:spPr>
          <a:xfrm>
            <a:off x="7000920" y="928800"/>
            <a:ext cx="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uora yhdysviiva 52"/>
          <p:cNvSpPr/>
          <p:nvPr/>
        </p:nvSpPr>
        <p:spPr>
          <a:xfrm flipH="1">
            <a:off x="7000920" y="1500120"/>
            <a:ext cx="144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kstikehys 1"/>
          <p:cNvSpPr/>
          <p:nvPr/>
        </p:nvSpPr>
        <p:spPr>
          <a:xfrm>
            <a:off x="594000" y="214200"/>
            <a:ext cx="72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ee virtapiiri, jossa on yksi lamppu ja yksi par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irrä kytkentäkaav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kstikehys 2"/>
          <p:cNvSpPr/>
          <p:nvPr/>
        </p:nvSpPr>
        <p:spPr>
          <a:xfrm>
            <a:off x="469800" y="1214280"/>
            <a:ext cx="833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a edellistä kytkentää niin, että kytket  yhden paris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jaan  kaksi paristoa sarj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ä huomaat lampun kirkkaud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irrä taas kytkentäkaav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kstikehys 3"/>
          <p:cNvSpPr/>
          <p:nvPr/>
        </p:nvSpPr>
        <p:spPr>
          <a:xfrm>
            <a:off x="465120" y="2857680"/>
            <a:ext cx="770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3.  Muuta taas kytkentää niin, että kytket yhden lam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jaan kaksi lamppua sarjaan. Miten käy lamp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rkkau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irrä kytkentäkaav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kstikehys 4"/>
          <p:cNvSpPr/>
          <p:nvPr/>
        </p:nvSpPr>
        <p:spPr>
          <a:xfrm>
            <a:off x="172440" y="4572000"/>
            <a:ext cx="935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. Tee taas sama kytkentä kuin kohdassa yk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ä toinen paristo  ensimmäisen rinna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käy lampun kirkkaudelle ? Piirrä taas kytkentäkaav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Virran mitt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ran suuruus mitataan  ampeereissa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A)  kytkemällä virtapiiriin  virtamittari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sarjaan</a:t>
            </a:r>
            <a:r>
              <a:rPr b="1" i="1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2000160" y="371484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äin virtamittari kytketään: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kstikehys 35"/>
          <p:cNvSpPr/>
          <p:nvPr/>
        </p:nvSpPr>
        <p:spPr>
          <a:xfrm>
            <a:off x="2073600" y="2000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kstikehys 36"/>
          <p:cNvSpPr/>
          <p:nvPr/>
        </p:nvSpPr>
        <p:spPr>
          <a:xfrm>
            <a:off x="644760" y="26431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ikehys 38"/>
          <p:cNvSpPr/>
          <p:nvPr/>
        </p:nvSpPr>
        <p:spPr>
          <a:xfrm>
            <a:off x="5233320" y="242892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ista: plus plussa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9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arja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inn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826920" y="1844640"/>
            <a:ext cx="338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rta on sama piirin kaikissa kohd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0"/>
          <p:cNvSpPr/>
          <p:nvPr/>
        </p:nvSpPr>
        <p:spPr>
          <a:xfrm>
            <a:off x="826920" y="4724280"/>
            <a:ext cx="3097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rta jakaantuu komponenttien kes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iirrä virtapiirit vihkoosi ja täytä puuttuvat lukemat</a:t>
            </a: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Jännitteen mitta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inen “puskua”, ’  jonka paristo antaa virralle, kutsutaan jännitteeksi. Sitä mitataan volteissa (V) jännitemitta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826920" y="1052640"/>
            <a:ext cx="7920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istoilla voi olla erilaiset jännitteet.. Mitä suurempi jännite, sitä suurempi vi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lttimittari kytketään aina rin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ännitteetä käytetään myös nimitystä potentiaalierp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Pa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isto varastoi kemiallista energiaa ja  muuntaa sen sähköenergiaksi,  kun virtapiiri kytketään.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635280" y="2637000"/>
            <a:ext cx="4824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714840" y="357192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iston kemiallista energiaa käytetään virran kuljettamiseen virtapiirissä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Kuva 7" descr="paristo.gif"/>
          <p:cNvPicPr/>
          <p:nvPr/>
        </p:nvPicPr>
        <p:blipFill>
          <a:blip r:embed="rId1"/>
          <a:stretch/>
        </p:blipFill>
        <p:spPr>
          <a:xfrm>
            <a:off x="214200" y="285768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6"/>
          <p:cNvSpPr/>
          <p:nvPr/>
        </p:nvSpPr>
        <p:spPr>
          <a:xfrm>
            <a:off x="6429240" y="4286160"/>
            <a:ext cx="64800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olttimittari kytketään piiriin näin</a:t>
            </a: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arja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inn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1"/>
          <p:cNvSpPr/>
          <p:nvPr/>
        </p:nvSpPr>
        <p:spPr>
          <a:xfrm>
            <a:off x="6500880" y="492912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9"/>
          <p:cNvSpPr/>
          <p:nvPr/>
        </p:nvSpPr>
        <p:spPr>
          <a:xfrm>
            <a:off x="6500880" y="507204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sarja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ännite jakaantuu komponenttien kesken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ännite on sama piirin kaikissa kohd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Rinn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0" y="1890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Kopioi virtapiirit ja täydennä mittarien lukemat</a:t>
            </a:r>
            <a:r>
              <a:rPr b="1" lang="en-GB" sz="4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3286080" y="4500720"/>
            <a:ext cx="43200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9"/>
          <p:cNvSpPr/>
          <p:nvPr/>
        </p:nvSpPr>
        <p:spPr>
          <a:xfrm>
            <a:off x="2214720" y="26431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kstikehys 31"/>
          <p:cNvSpPr/>
          <p:nvPr/>
        </p:nvSpPr>
        <p:spPr>
          <a:xfrm>
            <a:off x="3714840" y="571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uorakulmio 32"/>
          <p:cNvSpPr/>
          <p:nvPr/>
        </p:nvSpPr>
        <p:spPr>
          <a:xfrm>
            <a:off x="1357200" y="285840"/>
            <a:ext cx="600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Comic Sans MS"/>
              </a:rPr>
              <a:t>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Kopioi virtapiirit ja täydennä mittarien luke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6"/>
          <p:cNvSpPr/>
          <p:nvPr/>
        </p:nvSpPr>
        <p:spPr>
          <a:xfrm>
            <a:off x="2714760" y="2214720"/>
            <a:ext cx="0" cy="206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4"/>
          <p:cNvSpPr/>
          <p:nvPr/>
        </p:nvSpPr>
        <p:spPr>
          <a:xfrm>
            <a:off x="2463840" y="2557440"/>
            <a:ext cx="465120" cy="442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7"/>
          <p:cNvSpPr/>
          <p:nvPr/>
        </p:nvSpPr>
        <p:spPr>
          <a:xfrm>
            <a:off x="749160" y="3089160"/>
            <a:ext cx="393840" cy="33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3"/>
          <p:cNvSpPr/>
          <p:nvPr/>
        </p:nvSpPr>
        <p:spPr>
          <a:xfrm>
            <a:off x="6643800" y="342900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3"/>
          <p:cNvSpPr/>
          <p:nvPr/>
        </p:nvSpPr>
        <p:spPr>
          <a:xfrm>
            <a:off x="6504120" y="2397240"/>
            <a:ext cx="48888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56"/>
          <p:cNvSpPr/>
          <p:nvPr/>
        </p:nvSpPr>
        <p:spPr>
          <a:xfrm>
            <a:off x="5213520" y="2550960"/>
            <a:ext cx="502920" cy="44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Times New Roman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Sähkövi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11280" y="113004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ta on elektronien liikettä johtimissa ja komponenteissa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468360" y="5445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ta kulkee pariston positiivisesta navasta negatiiviseen napaan, päinvastaiseen suuntaan kuin elektronit.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4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4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4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Yksinkertaiset virtapi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ässä on virtapiiri, joka koostuu lampusta, paristosta, katkaisijasta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5880" y="492912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irtapiiri muodostuu, kun nämä komponentit yhdistetään johtimil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71680" y="2571840"/>
            <a:ext cx="11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r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7236000" y="407664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amp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072200" y="257184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katkai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500040" y="4071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oh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Kuva 13" descr="yksinkertainen virtapiiri.JPG"/>
          <p:cNvPicPr/>
          <p:nvPr/>
        </p:nvPicPr>
        <p:blipFill>
          <a:blip r:embed="rId1"/>
          <a:stretch/>
        </p:blipFill>
        <p:spPr>
          <a:xfrm>
            <a:off x="250020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Line 11"/>
          <p:cNvSpPr/>
          <p:nvPr/>
        </p:nvSpPr>
        <p:spPr>
          <a:xfrm>
            <a:off x="1643040" y="2857680"/>
            <a:ext cx="1357200" cy="45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"/>
          <p:cNvSpPr/>
          <p:nvPr/>
        </p:nvSpPr>
        <p:spPr>
          <a:xfrm>
            <a:off x="5000760" y="2786040"/>
            <a:ext cx="1857240" cy="460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786200" y="4292280"/>
            <a:ext cx="2451240" cy="651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1643040" y="4142880"/>
            <a:ext cx="1143000" cy="142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8"/>
          <p:cNvSpPr/>
          <p:nvPr/>
        </p:nvSpPr>
        <p:spPr>
          <a:xfrm>
            <a:off x="684360" y="1125360"/>
            <a:ext cx="799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un katkaisija suljetaan, lamppu syttyy, koska sähkövirralle  muodostuu yhtenäinen kulkureitti.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Kuva 3" descr="yksinkertainen virtapiiri.JPG"/>
          <p:cNvPicPr/>
          <p:nvPr/>
        </p:nvPicPr>
        <p:blipFill>
          <a:blip r:embed="rId1"/>
          <a:stretch/>
        </p:blipFill>
        <p:spPr>
          <a:xfrm>
            <a:off x="2428920" y="264312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4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4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99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0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Kytkentäkaav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16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1116000" y="5516640"/>
            <a:ext cx="138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ar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4714920" y="55166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atkai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9"/>
          <p:cNvSpPr/>
          <p:nvPr/>
        </p:nvSpPr>
        <p:spPr>
          <a:xfrm>
            <a:off x="2987640" y="551664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lamp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oh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468360" y="1052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okaiselle komponentille on oma merkkinsä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ora yhdysviiva 37"/>
          <p:cNvSpPr/>
          <p:nvPr/>
        </p:nvSpPr>
        <p:spPr>
          <a:xfrm flipH="1">
            <a:off x="6500880" y="1928880"/>
            <a:ext cx="144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9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virtapiirikytkenn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Virtapiirejä on kahdenlaisi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arja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innankytken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Kuva 7" descr="lamput-sarjassa.gif"/>
          <p:cNvPicPr/>
          <p:nvPr/>
        </p:nvPicPr>
        <p:blipFill>
          <a:blip r:embed="rId1"/>
          <a:stretch/>
        </p:blipFill>
        <p:spPr>
          <a:xfrm>
            <a:off x="571680" y="3000240"/>
            <a:ext cx="3666960" cy="2751120"/>
          </a:xfrm>
          <a:prstGeom prst="rect">
            <a:avLst/>
          </a:prstGeom>
          <a:ln w="0">
            <a:noFill/>
          </a:ln>
        </p:spPr>
      </p:pic>
      <p:pic>
        <p:nvPicPr>
          <p:cNvPr id="138" name="Kuva 8" descr="lamput-rinnan.gif"/>
          <p:cNvPicPr/>
          <p:nvPr/>
        </p:nvPicPr>
        <p:blipFill>
          <a:blip r:embed="rId2"/>
          <a:stretch/>
        </p:blipFill>
        <p:spPr>
          <a:xfrm>
            <a:off x="5072040" y="3000240"/>
            <a:ext cx="3500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714240" y="37861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omponentit kytketään peräkkä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755640" y="4724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 muodostavat yksinkertaisen silmukan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Lamppujen sarja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grpSp>
        <p:nvGrpSpPr>
          <p:cNvPr id="143" name="Ryhmä 20"/>
          <p:cNvGrpSpPr/>
          <p:nvPr/>
        </p:nvGrpSpPr>
        <p:grpSpPr>
          <a:xfrm>
            <a:off x="4788000" y="1125360"/>
            <a:ext cx="3313080" cy="2519640"/>
            <a:chOff x="4788000" y="1125360"/>
            <a:chExt cx="3313080" cy="2519640"/>
          </a:xfrm>
        </p:grpSpPr>
        <p:sp>
          <p:nvSpPr>
            <p:cNvPr id="144" name="Line 20"/>
            <p:cNvSpPr/>
            <p:nvPr/>
          </p:nvSpPr>
          <p:spPr>
            <a:xfrm flipH="1">
              <a:off x="4788000" y="335772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6012000" y="335772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6228000" y="112536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6443640" y="126972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6443640" y="148392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5867280" y="148392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3"/>
            <p:cNvSpPr/>
            <p:nvPr/>
          </p:nvSpPr>
          <p:spPr>
            <a:xfrm>
              <a:off x="5364000" y="3068640"/>
              <a:ext cx="647640" cy="57636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4"/>
            <p:cNvSpPr/>
            <p:nvPr/>
          </p:nvSpPr>
          <p:spPr>
            <a:xfrm>
              <a:off x="6948720" y="3068640"/>
              <a:ext cx="647640" cy="57636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>
              <a:off x="4788000" y="1483920"/>
              <a:ext cx="144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6516720" y="14839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4788000" y="1483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8101080" y="1483920"/>
              <a:ext cx="0" cy="187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 flipH="1">
              <a:off x="7596360" y="335772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s virtapiiriin tulee katkos, virta ei kulje missään koh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80000"/>
                </a:solidFill>
                <a:latin typeface="Comic Sans MS"/>
              </a:rPr>
              <a:t>Lamppujen rinnankytkent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6143760" y="2357280"/>
            <a:ext cx="64764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928800" y="471492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ähkövirralla on useita reittej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863640" y="428616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omponentit kytketään rinnakkain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s yksi lamppu menee rikki, muualla piirissä kulkee virta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7:13:19Z</dcterms:created>
  <dc:creator/>
  <dc:description/>
  <dc:language>en-US</dc:language>
  <cp:lastModifiedBy/>
  <dcterms:modified xsi:type="dcterms:W3CDTF">2010-01-17T14:53:47Z</dcterms:modified>
  <cp:revision>1</cp:revision>
  <dc:subject/>
  <dc:title/>
</cp:coreProperties>
</file>